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13A-8555-48BC-95FE-1642BFC8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4F8-9007-42F7-A791-E7F24A5D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1227-E976-45C3-922C-D330E5EA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CB9-D8C7-4736-8531-36658C71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A35-B2DB-4EE3-95DF-8510F26D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4DDA-5A83-4FDD-B8CB-890E0881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583C-6F70-4F60-8891-D02D262E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E27F-45B2-40A0-8B95-ED9F3B5A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A7AB-A570-4891-9308-25FA8E3A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697-67BD-4570-A42A-1AC2650F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851E-A295-4B5F-B806-C58A5D9A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9CD0-F480-44DB-A74E-93EFC9C9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B423-A95B-4E5D-80E6-F0A645A57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110280" cy="981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4562280" cy="586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880" y="2362320"/>
            <a:ext cx="617220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5334120" cy="963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7086600" cy="232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419112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472428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4191120"/>
            <a:ext cx="457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4648320"/>
            <a:ext cx="3808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5715000" cy="839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8001000" cy="1320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743200" y="396252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39625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396252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138640" cy="63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077320" cy="4902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2720" y="5410080"/>
            <a:ext cx="3808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7391520" cy="5776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191120" y="24382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3124080"/>
            <a:ext cx="9907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3733920"/>
            <a:ext cx="685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0670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495288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56:19Z</dcterms:created>
  <dc:creator>grahams</dc:creator>
  <dc:description/>
  <dc:language>en-US</dc:language>
  <cp:lastModifiedBy>grahams</cp:lastModifiedBy>
  <dcterms:modified xsi:type="dcterms:W3CDTF">2012-03-20T14:14:54Z</dcterms:modified>
  <cp:revision>3</cp:revision>
  <dc:subject/>
  <dc:title>Slide 1</dc:title>
</cp:coreProperties>
</file>